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2C1-3C73-495C-99E1-2472D55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7D8-ACEC-40C0-9805-055F1F8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C14-2BFE-476D-837B-F58AAB74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E97-1E74-4C10-8E7B-30224B45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C89-6C3C-40AD-A14F-B1DA214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F4D-E47B-4D24-821C-B8AC9ED1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04C-16E2-43B1-954E-61C509C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0BD-A9BC-4F90-A032-32F0903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B78-25A5-4C4A-A051-8569CDB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22A-722F-46F9-892D-95F2E49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9FE-2635-469B-9654-8A38BC5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D16-05AF-4FEA-A9B2-4E46EAD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0F7-CA14-400E-BC4C-ED50B866BDC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anada’s Natural Systems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1.1 The Earth in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353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gner could not explain how massive continents could move across the fac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st scientists rejected the CD theory.  Years later it turned out Wegner was right and it was a Canadian who helped discover the reason w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nk of the earth as a round egg.  Canada sits on the thin, brittle outer shell, called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ithosphere,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c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neath the lithosphere is the mantle, a zone of molten magma  where you’d find the egg wh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center, the earth’s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r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is like the yo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 is the nuclear furnace that melts the rocks of the mantle abov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714680"/>
            <a:ext cx="7777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26920" y="2000160"/>
            <a:ext cx="7632720" cy="4092840"/>
          </a:xfrm>
          <a:prstGeom prst="rect">
            <a:avLst/>
          </a:prstGeom>
          <a:ln w="0">
            <a:noFill/>
          </a:ln>
        </p:spPr>
      </p:pic>
      <p:sp>
        <p:nvSpPr>
          <p:cNvPr id="75" name="Curved Left Arrow 3"/>
          <p:cNvSpPr/>
          <p:nvPr/>
        </p:nvSpPr>
        <p:spPr>
          <a:xfrm>
            <a:off x="6827760" y="3429000"/>
            <a:ext cx="576360" cy="431640"/>
          </a:xfrm>
          <a:custGeom>
            <a:avLst/>
            <a:gdLst>
              <a:gd name="textAreaLeft" fmla="*/ 77040 w 576360"/>
              <a:gd name="textAreaRight" fmla="*/ 499320 w 57636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4921"/>
                <a:lnTo>
                  <a:pt x="4050" y="21480"/>
                </a:lnTo>
                <a:lnTo>
                  <a:pt x="0" y="16200"/>
                </a:lnTo>
                <a:lnTo>
                  <a:pt x="4050" y="10680"/>
                </a:lnTo>
                <a:lnTo>
                  <a:pt x="4050" y="13380"/>
                </a:lnTo>
                <a:arcTo wR="21600" hR="6750" stAng="3514921" swAng="-30489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urved Right Arrow 4"/>
          <p:cNvSpPr/>
          <p:nvPr/>
        </p:nvSpPr>
        <p:spPr>
          <a:xfrm>
            <a:off x="6156360" y="3429000"/>
            <a:ext cx="431640" cy="431640"/>
          </a:xfrm>
          <a:custGeom>
            <a:avLst/>
            <a:gdLst>
              <a:gd name="textAreaLeft" fmla="*/ 57600 w 431640"/>
              <a:gd name="textAreaRight" fmla="*/ 374040 w 431640"/>
              <a:gd name="textAreaTop" fmla="*/ 67320 h 431640"/>
              <a:gd name="textAreaBottom" fmla="*/ 31032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6156360" y="404640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the 1960’s Canadian J. Tuzo Wilson recogniz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hot spot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ould form deep in the mantle and that currents could circulate above these hot 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Just like boiling water swirls in a heated pot on a st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00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s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might provide enough force to push the crust apart, as Wegner sugg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field of plate tectonics investigates how moving plates can create volcanoes, build mountains, and trigger earthqu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ada has no active volcanoes, but some along the Pacific coast are classes as dormant (sleeping) volcan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West Coast volcanoes are part of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cific Ring of Fir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a global system of active volcanic mountains that circle the Pacific Oce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 will be able to show that you know some of Canada’s important geographic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derstand that Canada is divided into different types of regions including bioregions and eco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12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causes volcano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cientists believe there are “hot spots” in the earth’s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ising heat sets the molten material of the mantle into huge circular motions, like warm air circulating in a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the convection currents swirl, they drag the plates of the lithosphere wit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racks open along the plate edges and magma forces its way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56944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old 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per/binder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textbooks are like thick plates, carrying continents, while the paper represents soft sedimentary rock layers on an ocean 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r arms are like convection currents dragging the plates together to build mou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old 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  the Rocky Mountains were folded by the collision of the Pacific and North American Pl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agram page 25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e that Canada’s regions have very different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derstand how people and environment are linked together in Canada’s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an You Believe It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. 22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Calibri"/>
              </a:rPr>
              <a:t>Canada is home to some pretty strange landforms and weather, but don’t be that all of the following statements are true.  Take your best guess at the following ques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ilding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89647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: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you cut out the continents on a world map, you would be surprised at how well some of them fit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most a century ago, German geographer Alfred Wegener noticed this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arth in Motio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egner believed that the continents had once been joined together in one land mass that he call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ngaea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meaning “all land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 proposed the theory of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ntinental Drift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ich suggests that the continents gradually moved away from one another over tim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600" y="189000"/>
            <a:ext cx="9023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51:17Z</dcterms:created>
  <dc:creator>Jason</dc:creator>
  <dc:description/>
  <dc:language>en-US</dc:language>
  <cp:lastModifiedBy>Jason</cp:lastModifiedBy>
  <dcterms:modified xsi:type="dcterms:W3CDTF">2010-09-27T12:59:21Z</dcterms:modified>
  <cp:revision>7</cp:revision>
  <dc:subject/>
  <dc:title>Canada’s Natural Systems</dc:title>
</cp:coreProperties>
</file>